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5375-66DB-4EBD-9091-F32A973C7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F881-3AAA-465B-B964-7ADE3DD31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327-6337-4B24-9C7D-2E66521F9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1A22-B827-4609-889E-DE055B823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A2CA-F7E8-466B-B53D-EE44FA28F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15D-267A-451D-94FB-8C8C039F4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3246-AA02-40C2-B11D-E5B08DD90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003C-67DE-487A-9ECF-8A0AC4643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226D-56C2-4525-A98C-2C7FEBE3B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E55-8595-4A48-90CF-FEEFC1CC5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2E13-B998-4483-AE0D-D7F3FC741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16D0-3C41-4DFD-9D45-0AB26D8AD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7E67-A33E-4263-8273-946EDE082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9508-4230-4C1B-9E45-1C6A85F42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F03B-4C1A-4C63-A2FB-77C76912B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A788-E8AC-4A77-8FA8-570C795A8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D66-CA23-40A6-843D-2F9E0A882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507-21B8-4B49-BD96-270FBF7E4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9DE4-4201-4333-9F65-CCB4D24E9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BCF-1686-48A6-9165-A3F0CF40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C60-60EC-4983-871B-CC2AAC82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2BE-16CD-44F2-AB08-FAAF2207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2FD-3FE3-4CC8-9080-110ECB98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625-7263-4553-A4DE-990D3A82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0F3-75B0-4125-9A2D-B53ECBA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639-6BE3-4965-B57B-9F02CA22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4D0-7B4B-4266-A20E-D50D2F3F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EA3-6F55-4A44-AF9E-954339F1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04F-35C9-4840-814B-F21CC15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D21-EAF9-408D-A767-3AD43DC4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349-6A5B-4848-80ED-BE0672D3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F8FD-09C5-4F8B-A557-5EF9231C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) to revise bas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) to ask each other what animals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) to learn how to describe 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) to run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) to do some brain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) to learn where to put the colour in relation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-468360" y="260280"/>
            <a:ext cx="9612360" cy="6802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color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l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zul - b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arillo -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anco  - wh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de -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ado - purp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ro - 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jo -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- brow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anja - 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s - gre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the colour goes after the noun in a sentence e.g. tengo un caballo gr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it must agree IF the colour above ends in “o” e.g. una serpiente roj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w your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have a green torto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I have 10 white rabb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have 2 brown hor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I have 2 blue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have 5 orange bir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I have 14 black 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79280" y="476280"/>
            <a:ext cx="3888000" cy="44830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I have a green tort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I have 2 brown hor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I have 5 orange bir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I have 10 white rab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I have 2 blue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I have 14 black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140360" y="476280"/>
            <a:ext cx="4824360" cy="3751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Tengo una tortuga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Tengo dos caballos marr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Tengo cinco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jaros naranj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Tengo diez conejos bl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Tengo dos perros az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Tengo catorce gatos neg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476360" y="134136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12000" y="3429000"/>
            <a:ext cx="136656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588000" y="76500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124000" y="4724280"/>
            <a:ext cx="136692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284720" y="227664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611280" y="2997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6877080" y="5157720"/>
            <a:ext cx="1366920" cy="935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356000" y="404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284720" y="537372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708360" y="3645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877080" y="2060640"/>
            <a:ext cx="1366920" cy="93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39640" y="1052640"/>
            <a:ext cx="828036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Tienes ani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í, tengo dos gatos 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ueve caba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hora, ¡¡a vosotros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1:44:53Z</dcterms:created>
  <dc:creator>Owner1</dc:creator>
  <dc:description/>
  <dc:language>en-US</dc:language>
  <cp:lastModifiedBy>Chris</cp:lastModifiedBy>
  <dcterms:modified xsi:type="dcterms:W3CDTF">2009-01-12T10:53:11Z</dcterms:modified>
  <cp:revision>7</cp:revision>
  <dc:subject/>
  <dc:title>Slide 1</dc:title>
</cp:coreProperties>
</file>